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977-6968-4FD7-A6F9-5C1D4407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D64-7DF0-4C16-B4D6-49E5A8F6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77B-2FAC-4F25-A0AF-B4391F6F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94C-3A5A-4A6D-8A1E-5F2BD70B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1779-C14E-40EE-B951-49D9F886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65F-3E1F-44C2-9A93-B6D73CE4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AB4-A6F3-4419-AFD8-1D33FF93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9E9-32A7-4BE4-B7FA-5FA4D7E5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A90-59E7-4035-B30A-5904731B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7A2-060D-445C-8285-CBD59AA6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68E-3695-4B5A-93A2-1DC13211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0C0-721F-44FD-B38F-84313F41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6021-6C82-47A9-AF65-F2815360B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7 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7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38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uedes jugar deportes cuando tienes un resfri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correct form of the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esa _______ futbol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ju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_______ un partido mañan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e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_______ jugar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quer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no _______ perder el partid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o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lla _______ el partido, su equipo no _______ ganar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erder, po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fortunadamente, Teresa _______ un poco enferm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Re-write each sentence using “Nosotr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ultura y lectura: ¿Que le pasa a Adela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62; en voz a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omprendes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63 (1-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80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3:18:18Z</dcterms:created>
  <dc:creator>Helen Zumaeta</dc:creator>
  <dc:description/>
  <dc:language>en-US</dc:language>
  <cp:lastModifiedBy>Helen Zumaeta</cp:lastModifiedBy>
  <dcterms:modified xsi:type="dcterms:W3CDTF">2013-01-07T14:35:47Z</dcterms:modified>
  <cp:revision>7</cp:revision>
  <dc:subject/>
  <dc:title>Me llamo _________ Clase 7 im La fecha es el 26 de mayo del 2011</dc:title>
</cp:coreProperties>
</file>